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22A4-382C-4D91-9C81-BD8C9F82D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4BFE-E3A8-412A-BBA0-23F0801D5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BF3-AF8A-4C00-85DC-28B918D42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93C4-81C9-4AD9-AC86-1633D096F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6265-0D8A-4405-A95A-5CA2E4ECA3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F1AD-F549-4407-99B7-656A80099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F6AA-E3DC-4DE5-BBCD-CE3B43971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74E1-7A1C-4F4F-9B74-071D19C7F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151A-34F3-4DD0-A15B-A1B87E6B50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4A59-A841-455B-897A-EBF29B0EE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6E1B-88B5-4358-9A94-ABFA04348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842F-B8FB-4D94-B1CE-963368FAC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EA08-D59D-40F6-983F-CA4BD1F41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42EE-75E9-44B6-9BC5-55591B7ED6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B7A4-7893-4C32-B896-1504BABFD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4EAD-604B-438E-847E-3234F0AEA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29B9-2533-4DDA-BB63-D0ABE7C52C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159-4B89-4BD7-AA14-1E1E87CEE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8BE-42D1-4086-9247-4464C72A61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7E4-A770-400B-B4CD-911C926AA6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68C-D364-41EE-A226-6B739E4458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BD4-F044-408B-8898-39B45325D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F056-D9FA-4253-B8FE-93D789D90F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3AC-1690-4701-AC68-C8D69197AF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F07-F678-4353-9692-68E40B2FC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3D5-F0CF-49F3-AECC-5E81C26562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704-1A29-4319-BD6A-D22455CECD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1B5-F48B-45E8-B288-6422B1D51D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320-5841-4522-B8AE-E4611A3782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EB9-433E-49DD-81B5-9102EA6CCF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CECE6-A717-47D0-B1B3-F69F65BBFC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5CA73-30AF-444A-884F-452936AEA6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86D37-BC73-4892-AACD-C44CA1D1C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5B83-44DC-4314-A431-DB879B8CE3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8F0AC-47B3-4C66-8A65-310A3FEDA5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2700A-C9E5-42A6-A591-7BC9866858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CAA74-B3A7-46C5-AEE9-91976CC836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0185-0783-413A-B25D-284A977DEA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D2421-478B-4A60-A37F-F10969ABD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D7E1D-43F1-4DDD-A6D7-381DB79F1C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6E261-08EF-4C41-839B-F40635D7CE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5897-6024-4CA5-BFC1-6C5A4B2F76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A29D-4E2D-4BB9-B92E-6DA41C8E2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E855-02DA-416D-8BD8-6B229DFC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56C-1E74-45FC-8148-0CCB2E6ED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C273-6EF9-49A8-9EB6-61D18328D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36CC-2F62-4D2A-9E2E-FA7654C8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CB58-252E-43A0-BC26-6DEF6D650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112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8108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3828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8640" y="6426360"/>
            <a:ext cx="279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BAFA-D4BE-4430-AFEA-28C803CB94FE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896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81120" indent="-285840">
              <a:spcBef>
                <a:spcPts val="9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81080" indent="-228600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382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440" y="6248520"/>
            <a:ext cx="3524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4A7-6721-4CF3-B7C9-53A721AE43D7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9" name="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1000"/>
          </a:bodyPr>
          <a:p>
            <a:pPr marL="28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3"/>
          </p:nvPr>
        </p:nvSpPr>
        <p:spPr>
          <a:xfrm>
            <a:off x="7478640" y="6426360"/>
            <a:ext cx="279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3CB-DB42-4C94-8BB0-F7B1BB649B4E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905840" y="167400"/>
            <a:ext cx="7098840" cy="5617080"/>
            <a:chOff x="1905840" y="167400"/>
            <a:chExt cx="7098840" cy="5617080"/>
          </a:xfrm>
        </p:grpSpPr>
        <p:grpSp>
          <p:nvGrpSpPr>
            <p:cNvPr id="121" name=""/>
            <p:cNvGrpSpPr/>
            <p:nvPr/>
          </p:nvGrpSpPr>
          <p:grpSpPr>
            <a:xfrm>
              <a:off x="3479760" y="950760"/>
              <a:ext cx="946080" cy="711000"/>
              <a:chOff x="3479760" y="950760"/>
              <a:chExt cx="946080" cy="711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479760" y="950760"/>
                <a:ext cx="946080" cy="7110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19600" y="1261080"/>
                <a:ext cx="22680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840" y="167400"/>
              <a:ext cx="7098840" cy="5617080"/>
              <a:chOff x="1905840" y="167400"/>
              <a:chExt cx="7098840" cy="56170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905840" y="167400"/>
                <a:ext cx="7098840" cy="5617080"/>
                <a:chOff x="1905840" y="167400"/>
                <a:chExt cx="7098840" cy="56170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3732480" y="1263600"/>
                  <a:ext cx="3601800" cy="2652840"/>
                  <a:chOff x="3732480" y="1263600"/>
                  <a:chExt cx="3601800" cy="26528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732480" y="1263600"/>
                    <a:ext cx="360180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107680" y="2233440"/>
                    <a:ext cx="71280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905840" y="167400"/>
                  <a:ext cx="7098840" cy="5617080"/>
                  <a:chOff x="1905840" y="167400"/>
                  <a:chExt cx="7098840" cy="561708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135040" y="2399400"/>
                    <a:ext cx="3414960" cy="2847600"/>
                    <a:chOff x="5135040" y="2399400"/>
                    <a:chExt cx="3414960" cy="28476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rot="2700000">
                      <a:off x="5059440" y="3023640"/>
                      <a:ext cx="2025720" cy="62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2700000">
                      <a:off x="7275240" y="4020120"/>
                      <a:ext cx="1083960" cy="98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5802480" y="1570320"/>
                    <a:ext cx="3199320" cy="3348360"/>
                    <a:chOff x="5802480" y="1570320"/>
                    <a:chExt cx="3199320" cy="33483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 rot="2100000">
                      <a:off x="5786640" y="2152080"/>
                      <a:ext cx="2234520" cy="64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49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rot="2100000">
                      <a:off x="7622640" y="3646800"/>
                      <a:ext cx="1194120" cy="1021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49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5762880" y="1621800"/>
                    <a:ext cx="3232080" cy="2632320"/>
                    <a:chOff x="5762880" y="1621800"/>
                    <a:chExt cx="3232080" cy="26323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rot="1560000">
                      <a:off x="5775120" y="2068560"/>
                      <a:ext cx="2167200" cy="55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560000">
                      <a:off x="7702920" y="3165840"/>
                      <a:ext cx="1158120" cy="87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729400" y="1662120"/>
                    <a:ext cx="3275280" cy="2062440"/>
                    <a:chOff x="5729400" y="1662120"/>
                    <a:chExt cx="3275280" cy="2062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rot="1079400">
                      <a:off x="5765400" y="1976400"/>
                      <a:ext cx="2125800" cy="570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29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079400">
                      <a:off x="7757280" y="2668320"/>
                      <a:ext cx="1135440" cy="902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29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5780520" y="1750320"/>
                    <a:ext cx="3006720" cy="1198800"/>
                    <a:chOff x="5780520" y="1750320"/>
                    <a:chExt cx="3006720" cy="11988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 rot="479400">
                      <a:off x="5803920" y="1882800"/>
                      <a:ext cx="1939320" cy="47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17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rot="479400">
                      <a:off x="7702920" y="2134800"/>
                      <a:ext cx="1037520" cy="74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17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846400" y="1809720"/>
                    <a:ext cx="2658240" cy="449280"/>
                    <a:chOff x="5846400" y="1809720"/>
                    <a:chExt cx="2658240" cy="44928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rot="21540000">
                      <a:off x="5848560" y="1840320"/>
                      <a:ext cx="1735920" cy="27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6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rot="21540000">
                      <a:off x="7575120" y="1817640"/>
                      <a:ext cx="92556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6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763240" y="1219320"/>
                    <a:ext cx="2438640" cy="1028880"/>
                    <a:chOff x="5763240" y="1219320"/>
                    <a:chExt cx="2438640" cy="10288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 rot="20820000">
                      <a:off x="5786640" y="1692720"/>
                      <a:ext cx="1549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9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20820000">
                      <a:off x="7314840" y="1304640"/>
                      <a:ext cx="828720" cy="61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9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413440" y="2552040"/>
                    <a:ext cx="3416400" cy="2845800"/>
                    <a:chOff x="2413440" y="2552040"/>
                    <a:chExt cx="3416400" cy="28458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H="1" rot="18900000">
                      <a:off x="3878640" y="3176640"/>
                      <a:ext cx="2026440" cy="62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H="1" rot="18900000">
                      <a:off x="2603880" y="4172400"/>
                      <a:ext cx="1081440" cy="98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1905840" y="1788480"/>
                    <a:ext cx="3202920" cy="3347640"/>
                    <a:chOff x="1905840" y="1788480"/>
                    <a:chExt cx="3202920" cy="334764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 flipH="1" rot="19500000">
                      <a:off x="2886840" y="2371680"/>
                      <a:ext cx="2238120" cy="64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 flipH="1" rot="19500000">
                      <a:off x="2090520" y="3863880"/>
                      <a:ext cx="1193760" cy="102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910880" y="1838520"/>
                    <a:ext cx="3240720" cy="2633760"/>
                    <a:chOff x="1910880" y="1838520"/>
                    <a:chExt cx="3240720" cy="26337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flipH="1" rot="20040000">
                      <a:off x="2968200" y="2285640"/>
                      <a:ext cx="2170440" cy="55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 rot="20040000">
                      <a:off x="2043720" y="3386520"/>
                      <a:ext cx="1158480" cy="87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906200" y="1879920"/>
                    <a:ext cx="3272760" cy="2060640"/>
                    <a:chOff x="1906200" y="1879920"/>
                    <a:chExt cx="3272760" cy="20606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flipH="1" rot="20520000">
                      <a:off x="3018600" y="2193840"/>
                      <a:ext cx="2123640" cy="57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H="1" rot="20520000">
                      <a:off x="2017440" y="2886840"/>
                      <a:ext cx="1133640" cy="90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123280" y="1968840"/>
                    <a:ext cx="3004920" cy="1198080"/>
                    <a:chOff x="2123280" y="1968840"/>
                    <a:chExt cx="3004920" cy="11980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 flipH="1" rot="21120000">
                      <a:off x="3164400" y="2101320"/>
                      <a:ext cx="1939680" cy="470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H="1" rot="21120000">
                      <a:off x="2170080" y="2353680"/>
                      <a:ext cx="1037520" cy="74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2402640" y="2027160"/>
                    <a:ext cx="2660040" cy="449280"/>
                    <a:chOff x="2402640" y="2027160"/>
                    <a:chExt cx="2660040" cy="4492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 flipH="1" rot="60000">
                      <a:off x="3323160" y="2057760"/>
                      <a:ext cx="1737360" cy="27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flipH="1" rot="60000">
                      <a:off x="2405880" y="2035080"/>
                      <a:ext cx="92592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2703600" y="1438560"/>
                    <a:ext cx="2442240" cy="1027080"/>
                    <a:chOff x="2703600" y="1438560"/>
                    <a:chExt cx="2442240" cy="102708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H="1" rot="780000">
                      <a:off x="3571560" y="1910880"/>
                      <a:ext cx="15508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 rot="780000">
                      <a:off x="2761200" y="1523880"/>
                      <a:ext cx="828720" cy="612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799000" y="1111680"/>
                    <a:ext cx="2432520" cy="1464840"/>
                    <a:chOff x="2799000" y="1111680"/>
                    <a:chExt cx="2432520" cy="1464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 flipH="1" rot="1260000">
                      <a:off x="3657960" y="1900800"/>
                      <a:ext cx="1550880" cy="41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 rot="1260000">
                      <a:off x="2888280" y="1237680"/>
                      <a:ext cx="82620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3041280" y="666000"/>
                    <a:ext cx="2273400" cy="2061360"/>
                    <a:chOff x="3041280" y="666000"/>
                    <a:chExt cx="2273400" cy="20613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flipH="1" rot="2040000">
                      <a:off x="3810600" y="1911240"/>
                      <a:ext cx="1512720" cy="429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H="1" rot="2040000">
                      <a:off x="3162240" y="833400"/>
                      <a:ext cx="806400" cy="67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311640" y="262080"/>
                    <a:ext cx="2059920" cy="2446200"/>
                    <a:chOff x="3311640" y="262080"/>
                    <a:chExt cx="2059920" cy="2446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H="1" rot="2640000">
                      <a:off x="3956040" y="1824840"/>
                      <a:ext cx="147132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flipH="1" rot="2640000">
                      <a:off x="3439800" y="437760"/>
                      <a:ext cx="783360" cy="68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3881520" y="226080"/>
                    <a:ext cx="1929600" cy="1993320"/>
                    <a:chOff x="3881520" y="226080"/>
                    <a:chExt cx="1929600" cy="19933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rot="3480000">
                      <a:off x="4592880" y="1334160"/>
                      <a:ext cx="1371960" cy="397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 rot="3480000">
                      <a:off x="3975480" y="388800"/>
                      <a:ext cx="731520" cy="62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341240" y="167400"/>
                    <a:ext cx="1445760" cy="2045160"/>
                    <a:chOff x="4341240" y="167400"/>
                    <a:chExt cx="1445760" cy="20451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H="1" rot="4140000">
                      <a:off x="4699800" y="1331280"/>
                      <a:ext cx="13442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rot="4140000">
                      <a:off x="4386960" y="311400"/>
                      <a:ext cx="714240" cy="590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641920" y="822960"/>
                    <a:ext cx="2422800" cy="1509840"/>
                    <a:chOff x="5641920" y="822960"/>
                    <a:chExt cx="2422800" cy="1509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0280000">
                      <a:off x="5662800" y="1645560"/>
                      <a:ext cx="154512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82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0280000">
                      <a:off x="7144560" y="954000"/>
                      <a:ext cx="827280" cy="65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82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533200" y="464760"/>
                    <a:ext cx="2305800" cy="1981080"/>
                    <a:chOff x="5533200" y="464760"/>
                    <a:chExt cx="2305800" cy="198108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19680000">
                      <a:off x="5531040" y="1647720"/>
                      <a:ext cx="151884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70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19680000">
                      <a:off x="6908400" y="628200"/>
                      <a:ext cx="812520" cy="678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70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 flipH="1" rot="4560000">
                    <a:off x="4765680" y="1466280"/>
                    <a:ext cx="126648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4560000">
                    <a:off x="4796640" y="539280"/>
                    <a:ext cx="6760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086080" y="189360"/>
                    <a:ext cx="1591200" cy="1982880"/>
                    <a:chOff x="5086080" y="189360"/>
                    <a:chExt cx="1591200" cy="19828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7760000">
                      <a:off x="4866120" y="1332360"/>
                      <a:ext cx="1325520" cy="33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39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760000">
                      <a:off x="5925960" y="356400"/>
                      <a:ext cx="708480" cy="53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39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4927680" y="226800"/>
                    <a:ext cx="2457360" cy="1926000"/>
                    <a:chOff x="4927680" y="226800"/>
                    <a:chExt cx="2457360" cy="19260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18840000">
                      <a:off x="4890240" y="1224360"/>
                      <a:ext cx="1412280" cy="49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60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18840000">
                      <a:off x="6465240" y="378720"/>
                      <a:ext cx="754200" cy="78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60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376600" y="279720"/>
                    <a:ext cx="545760" cy="1811160"/>
                    <a:chOff x="5376600" y="279720"/>
                    <a:chExt cx="545760" cy="18111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16680000">
                      <a:off x="4941000" y="1421280"/>
                      <a:ext cx="1181880" cy="14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18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6680000">
                      <a:off x="5449320" y="489600"/>
                      <a:ext cx="627480" cy="23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18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2829960" y="2550240"/>
                    <a:ext cx="2994840" cy="3156120"/>
                    <a:chOff x="2829960" y="2550240"/>
                    <a:chExt cx="2994840" cy="31561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flipH="1" rot="18360000">
                      <a:off x="3899880" y="3274200"/>
                      <a:ext cx="2107440" cy="622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flipH="1" rot="18360000">
                      <a:off x="2995560" y="4469760"/>
                      <a:ext cx="1126440" cy="98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3628800" y="2613960"/>
                    <a:ext cx="1985400" cy="3162960"/>
                    <a:chOff x="3628800" y="2613960"/>
                    <a:chExt cx="1985400" cy="316296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7520000">
                      <a:off x="3957840" y="3362040"/>
                      <a:ext cx="2011680" cy="58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7520000">
                      <a:off x="3727800" y="4633920"/>
                      <a:ext cx="1073520" cy="938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4427640" y="2674800"/>
                    <a:ext cx="1111320" cy="3008520"/>
                    <a:chOff x="4427640" y="2674800"/>
                    <a:chExt cx="1111320" cy="30085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6860000">
                      <a:off x="4156200" y="3421800"/>
                      <a:ext cx="1922040" cy="48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6860000">
                      <a:off x="4390920" y="4722480"/>
                      <a:ext cx="1023480" cy="76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5099400" y="2513520"/>
                    <a:ext cx="3093120" cy="3097440"/>
                    <a:chOff x="5099400" y="2513520"/>
                    <a:chExt cx="3093120" cy="30974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3119400">
                      <a:off x="4943880" y="3216960"/>
                      <a:ext cx="2090880" cy="62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3119400">
                      <a:off x="6899400" y="4372560"/>
                      <a:ext cx="1118880" cy="98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16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5196960" y="2577600"/>
                    <a:ext cx="2408400" cy="3195000"/>
                    <a:chOff x="5196960" y="2577600"/>
                    <a:chExt cx="2408400" cy="31950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rot="3719400">
                      <a:off x="4911840" y="3328560"/>
                      <a:ext cx="2055960" cy="589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74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3719400">
                      <a:off x="6386400" y="4602600"/>
                      <a:ext cx="1098720" cy="93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2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5261400" y="2685240"/>
                    <a:ext cx="1691640" cy="3099240"/>
                    <a:chOff x="5261400" y="2685240"/>
                    <a:chExt cx="1691640" cy="3099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rot="4260000">
                      <a:off x="4816080" y="3467160"/>
                      <a:ext cx="2000520" cy="48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85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rot="4260000">
                      <a:off x="5882760" y="4772160"/>
                      <a:ext cx="1069560" cy="76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393160" y="2818800"/>
                    <a:ext cx="878400" cy="2828160"/>
                    <a:chOff x="5393160" y="2818800"/>
                    <a:chExt cx="878400" cy="28281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rot="4919400">
                      <a:off x="4802760" y="3554280"/>
                      <a:ext cx="1840680" cy="407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97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4919400">
                      <a:off x="5393520" y="4794120"/>
                      <a:ext cx="979920" cy="64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5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4912200" y="2874240"/>
                    <a:ext cx="802440" cy="2743920"/>
                    <a:chOff x="4912200" y="2874240"/>
                    <a:chExt cx="802440" cy="27439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rot="5759400">
                      <a:off x="4582800" y="3633120"/>
                      <a:ext cx="1788120" cy="290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61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5759400">
                      <a:off x="4712400" y="4893120"/>
                      <a:ext cx="951480" cy="455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61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2173320" y="679320"/>
                <a:ext cx="6732360" cy="4522680"/>
                <a:chOff x="2173320" y="679320"/>
                <a:chExt cx="6732360" cy="452268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2173320" y="679320"/>
                  <a:ext cx="6732360" cy="4522680"/>
                  <a:chOff x="2173320" y="679320"/>
                  <a:chExt cx="6732360" cy="45226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38760" y="855720"/>
                    <a:ext cx="3166920" cy="1303560"/>
                    <a:chOff x="5738760" y="855720"/>
                    <a:chExt cx="3166920" cy="13035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flipH="1" rot="10800000">
                      <a:off x="5738400" y="855720"/>
                      <a:ext cx="3166920" cy="13035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2558880" y="2267640"/>
                    <a:ext cx="2485800" cy="2934360"/>
                    <a:chOff x="2558880" y="2267640"/>
                    <a:chExt cx="2485800" cy="29343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>
                      <a:off x="2558520" y="2267640"/>
                      <a:ext cx="248580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e1f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5816520" y="1749600"/>
                    <a:ext cx="1758960" cy="2934360"/>
                    <a:chOff x="5816520" y="1749600"/>
                    <a:chExt cx="1758960" cy="2934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816520" y="1749600"/>
                      <a:ext cx="175896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2173320" y="1295280"/>
                    <a:ext cx="3132000" cy="2934360"/>
                    <a:chOff x="2173320" y="1295280"/>
                    <a:chExt cx="3132000" cy="29343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2173320" y="1295280"/>
                      <a:ext cx="313200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e1f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3055680" y="679320"/>
                    <a:ext cx="2281320" cy="1317600"/>
                    <a:chOff x="3055680" y="679320"/>
                    <a:chExt cx="2281320" cy="131760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3055320" y="679320"/>
                      <a:ext cx="2281320" cy="131760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488200" y="1873440"/>
                    <a:ext cx="942840" cy="1257480"/>
                    <a:chOff x="5488200" y="1873440"/>
                    <a:chExt cx="942840" cy="125748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488200" y="1873440"/>
                      <a:ext cx="942840" cy="125748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e1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2" name=""/>
                  <p:cNvSpPr/>
                  <p:nvPr/>
                </p:nvSpPr>
                <p:spPr>
                  <a:xfrm flipH="1">
                    <a:off x="4305240" y="842760"/>
                    <a:ext cx="511200" cy="1870920"/>
                  </a:xfrm>
                  <a:prstGeom prst="pie">
                    <a:avLst/>
                  </a:prstGeom>
                  <a:noFill/>
                  <a:ln w="1260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"/>
                <p:cNvSpPr/>
                <p:nvPr/>
              </p:nvSpPr>
              <p:spPr>
                <a:xfrm rot="20280000">
                  <a:off x="6125040" y="2184480"/>
                  <a:ext cx="539640" cy="1027800"/>
                </a:xfrm>
                <a:prstGeom prst="pie">
                  <a:avLst/>
                </a:prstGeom>
                <a:noFill/>
                <a:ln w="1260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2340000" y="717480"/>
              <a:ext cx="6401520" cy="4702680"/>
              <a:chOff x="2340000" y="717480"/>
              <a:chExt cx="6401520" cy="470268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4470480" y="3241440"/>
                <a:ext cx="593640" cy="181728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380040" y="2575800"/>
                <a:ext cx="1956240" cy="2844360"/>
                <a:chOff x="3380040" y="2575800"/>
                <a:chExt cx="1956240" cy="2844360"/>
              </a:xfrm>
            </p:grpSpPr>
            <p:sp>
              <p:nvSpPr>
                <p:cNvPr id="247" name=""/>
                <p:cNvSpPr/>
                <p:nvPr/>
              </p:nvSpPr>
              <p:spPr>
                <a:xfrm flipH="1">
                  <a:off x="3380040" y="2575800"/>
                  <a:ext cx="1956240" cy="28443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642120" y="2116800"/>
                <a:ext cx="1533600" cy="2937960"/>
                <a:chOff x="3642120" y="2116800"/>
                <a:chExt cx="1533600" cy="293796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642120" y="2116800"/>
                  <a:ext cx="1533600" cy="29379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340000" y="1732320"/>
                <a:ext cx="2929680" cy="2937960"/>
                <a:chOff x="2340000" y="1732320"/>
                <a:chExt cx="2929680" cy="293796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2340000" y="1732320"/>
                  <a:ext cx="2929680" cy="29379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84320" y="2147040"/>
                <a:ext cx="471240" cy="2936160"/>
                <a:chOff x="5584320" y="2147040"/>
                <a:chExt cx="471240" cy="2936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84320" y="2147040"/>
                  <a:ext cx="471240" cy="29361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08160" y="2132640"/>
                <a:ext cx="1238400" cy="2936520"/>
                <a:chOff x="5708160" y="2132640"/>
                <a:chExt cx="1238400" cy="2936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708160" y="2132640"/>
                  <a:ext cx="1238400" cy="293652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154560" y="3554280"/>
                <a:ext cx="592200" cy="181548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8880000">
                <a:off x="5218560" y="2946600"/>
                <a:ext cx="541440" cy="102924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694960" y="3392280"/>
                <a:ext cx="1325880" cy="18712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321360" y="1403640"/>
                <a:ext cx="851040" cy="187272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10680" y="3116160"/>
                <a:ext cx="1230840" cy="196632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65920" y="2112120"/>
                <a:ext cx="1854720" cy="131184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34320" y="717480"/>
                <a:ext cx="811440" cy="17596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320000">
                <a:off x="4179960" y="2156040"/>
                <a:ext cx="539640" cy="102780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39500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9000"/>
          </a:bodyPr>
          <a:p>
            <a:pPr marL="270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"/>
          </p:nvPr>
        </p:nvSpPr>
        <p:spPr>
          <a:xfrm>
            <a:off x="7327440" y="6248520"/>
            <a:ext cx="3524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6A2-8B77-4DCA-8E8B-2B99178095E6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4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Ancient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made up of over 200 small kingd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ted by Emperor Ch ‘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ers an area of 3,691,500 sq. m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rgest country in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lds largest pop. over 3 b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10360" y="1600200"/>
            <a:ext cx="2712960" cy="2170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689440" y="4157640"/>
            <a:ext cx="19558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5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The Great Wall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by over 1 million people, mostly peasants and people that couldn’t pay their taxes (conscripted worke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the emper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popula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“Great Wall” was built by the Ming Dynasty between 1368-1644 a.d. and improved upon the original wall.  Stretched 3,997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the Ming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pop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6227640" y="-53280"/>
            <a:ext cx="2956680" cy="3307680"/>
            <a:chOff x="6227640" y="-53280"/>
            <a:chExt cx="2956680" cy="3307680"/>
          </a:xfrm>
        </p:grpSpPr>
        <p:grpSp>
          <p:nvGrpSpPr>
            <p:cNvPr id="360" name=""/>
            <p:cNvGrpSpPr/>
            <p:nvPr/>
          </p:nvGrpSpPr>
          <p:grpSpPr>
            <a:xfrm>
              <a:off x="7566480" y="2500200"/>
              <a:ext cx="1004760" cy="754200"/>
              <a:chOff x="7566480" y="2500200"/>
              <a:chExt cx="1004760" cy="75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7566480" y="250020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926840" y="28288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798680" y="1442880"/>
              <a:ext cx="1004760" cy="754200"/>
              <a:chOff x="7798680" y="1442880"/>
              <a:chExt cx="1004760" cy="75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779868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159040" y="17715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26280" y="0"/>
              <a:ext cx="1006560" cy="754200"/>
              <a:chOff x="6326280" y="0"/>
              <a:chExt cx="1006560" cy="75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6326280" y="0"/>
                <a:ext cx="10065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87360" y="328680"/>
                <a:ext cx="24336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227640" y="-53280"/>
              <a:ext cx="2956680" cy="2336040"/>
              <a:chOff x="6227640" y="-53280"/>
              <a:chExt cx="2956680" cy="23360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6989760" y="403200"/>
                <a:ext cx="1498680" cy="1104840"/>
                <a:chOff x="6989760" y="403200"/>
                <a:chExt cx="1498680" cy="11048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98976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61440" y="806400"/>
                  <a:ext cx="2966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227640" y="-53280"/>
                <a:ext cx="2956680" cy="2336040"/>
                <a:chOff x="6227640" y="-53280"/>
                <a:chExt cx="2956680" cy="23360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7575840" y="874800"/>
                  <a:ext cx="1417320" cy="1185840"/>
                  <a:chOff x="7575840" y="874800"/>
                  <a:chExt cx="1417320" cy="11858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2700000">
                    <a:off x="7545240" y="1133280"/>
                    <a:ext cx="840600" cy="26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2700000">
                    <a:off x="8462520" y="1549080"/>
                    <a:ext cx="450720" cy="41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850880" y="530640"/>
                  <a:ext cx="1332360" cy="1394280"/>
                  <a:chOff x="7850880" y="530640"/>
                  <a:chExt cx="1332360" cy="13942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2100000">
                    <a:off x="7844040" y="772560"/>
                    <a:ext cx="929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49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2100000">
                    <a:off x="8606880" y="1393200"/>
                    <a:ext cx="498960" cy="42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49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834680" y="551880"/>
                  <a:ext cx="1347840" cy="1095840"/>
                  <a:chOff x="7834680" y="551880"/>
                  <a:chExt cx="1347840" cy="1095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560000">
                    <a:off x="7839720" y="737640"/>
                    <a:ext cx="902160" cy="23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560000">
                    <a:off x="8641440" y="1193400"/>
                    <a:ext cx="484920" cy="36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822800" y="567720"/>
                  <a:ext cx="1361520" cy="859320"/>
                  <a:chOff x="7822800" y="567720"/>
                  <a:chExt cx="1361520" cy="8593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079400">
                    <a:off x="7837920" y="698040"/>
                    <a:ext cx="883800" cy="23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29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079400">
                    <a:off x="8665920" y="986760"/>
                    <a:ext cx="471600" cy="37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29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840800" y="604800"/>
                  <a:ext cx="1252800" cy="499680"/>
                  <a:chOff x="7840800" y="604800"/>
                  <a:chExt cx="1252800" cy="4996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479400">
                    <a:off x="7850520" y="659880"/>
                    <a:ext cx="809640" cy="195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1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479400">
                    <a:off x="8643600" y="765000"/>
                    <a:ext cx="430560" cy="310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1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868520" y="629640"/>
                  <a:ext cx="1107720" cy="186120"/>
                  <a:chOff x="7868520" y="629640"/>
                  <a:chExt cx="1107720" cy="186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21540000">
                    <a:off x="7869240" y="642960"/>
                    <a:ext cx="724320" cy="114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6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21540000">
                    <a:off x="8589240" y="632880"/>
                    <a:ext cx="385200" cy="179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6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834320" y="383400"/>
                  <a:ext cx="1018440" cy="429480"/>
                  <a:chOff x="7834320" y="383400"/>
                  <a:chExt cx="1018440" cy="4294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20820000">
                    <a:off x="7844040" y="579240"/>
                    <a:ext cx="64836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9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20820000">
                    <a:off x="8482680" y="418680"/>
                    <a:ext cx="345600" cy="257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9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440040" y="938160"/>
                  <a:ext cx="1422000" cy="1184400"/>
                  <a:chOff x="6440040" y="938160"/>
                  <a:chExt cx="1422000" cy="11844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8900000">
                    <a:off x="7049520" y="1198080"/>
                    <a:ext cx="843480" cy="25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8900000">
                    <a:off x="6519240" y="1611720"/>
                    <a:ext cx="450000" cy="41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227640" y="621000"/>
                  <a:ext cx="1332360" cy="1392120"/>
                  <a:chOff x="6227640" y="621000"/>
                  <a:chExt cx="1332360" cy="1392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9500000">
                    <a:off x="6635520" y="863280"/>
                    <a:ext cx="930960" cy="269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9500000">
                    <a:off x="6304680" y="1482480"/>
                    <a:ext cx="496080" cy="42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6232320" y="643680"/>
                  <a:ext cx="1348200" cy="1094040"/>
                  <a:chOff x="6232320" y="643680"/>
                  <a:chExt cx="1348200" cy="109404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20040000">
                    <a:off x="6671520" y="829800"/>
                    <a:ext cx="903960" cy="231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0040000">
                    <a:off x="6287760" y="1285200"/>
                    <a:ext cx="482040" cy="36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6228360" y="659880"/>
                  <a:ext cx="1363320" cy="859320"/>
                  <a:chOff x="6228360" y="659880"/>
                  <a:chExt cx="1363320" cy="8593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20520000">
                    <a:off x="6693120" y="790200"/>
                    <a:ext cx="882720" cy="23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20520000">
                    <a:off x="6274800" y="1077840"/>
                    <a:ext cx="474120" cy="37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319080" y="697320"/>
                  <a:ext cx="1249200" cy="496080"/>
                  <a:chOff x="6319080" y="697320"/>
                  <a:chExt cx="1249200" cy="4960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H="1" rot="21120000">
                    <a:off x="6751800" y="752400"/>
                    <a:ext cx="806400" cy="19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21120000">
                    <a:off x="6337800" y="857520"/>
                    <a:ext cx="431280" cy="307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6435720" y="720360"/>
                  <a:ext cx="1105560" cy="185760"/>
                  <a:chOff x="6435720" y="720360"/>
                  <a:chExt cx="1105560" cy="185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60000">
                    <a:off x="6819120" y="732960"/>
                    <a:ext cx="720720" cy="113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60000">
                    <a:off x="6436800" y="723600"/>
                    <a:ext cx="387360" cy="178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561000" y="474120"/>
                  <a:ext cx="1016640" cy="429480"/>
                  <a:chOff x="6561000" y="474120"/>
                  <a:chExt cx="1016640" cy="4294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780000">
                    <a:off x="6921360" y="669960"/>
                    <a:ext cx="64584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780000">
                    <a:off x="6585120" y="509400"/>
                    <a:ext cx="344160" cy="257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6601680" y="339120"/>
                  <a:ext cx="1013040" cy="610200"/>
                  <a:chOff x="6601680" y="339120"/>
                  <a:chExt cx="1013040" cy="61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260000">
                    <a:off x="6958800" y="666720"/>
                    <a:ext cx="645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260000">
                    <a:off x="6638040" y="391680"/>
                    <a:ext cx="3430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701760" y="152280"/>
                  <a:ext cx="945360" cy="858600"/>
                  <a:chOff x="6701760" y="152280"/>
                  <a:chExt cx="945360" cy="8586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2040000">
                    <a:off x="7020720" y="672120"/>
                    <a:ext cx="6303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rot="2040000">
                    <a:off x="6751440" y="221760"/>
                    <a:ext cx="335520" cy="28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15160" y="-13680"/>
                  <a:ext cx="855720" cy="1017720"/>
                  <a:chOff x="6815160" y="-13680"/>
                  <a:chExt cx="855720" cy="10177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2640000">
                    <a:off x="7081560" y="635760"/>
                    <a:ext cx="612720" cy="180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2640000">
                    <a:off x="6867360" y="60120"/>
                    <a:ext cx="327240" cy="28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051320" y="-29160"/>
                  <a:ext cx="804240" cy="830520"/>
                  <a:chOff x="7051320" y="-29160"/>
                  <a:chExt cx="804240" cy="8305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3480000">
                    <a:off x="7345800" y="431640"/>
                    <a:ext cx="573840" cy="16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3480000">
                    <a:off x="7090920" y="38160"/>
                    <a:ext cx="305280" cy="26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243200" y="-53280"/>
                  <a:ext cx="599400" cy="849240"/>
                  <a:chOff x="7243200" y="-53280"/>
                  <a:chExt cx="599400" cy="8492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4140000">
                    <a:off x="7388640" y="427680"/>
                    <a:ext cx="55980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4140000">
                    <a:off x="7262640" y="5760"/>
                    <a:ext cx="29520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786440" y="218520"/>
                  <a:ext cx="1006200" cy="627840"/>
                  <a:chOff x="7786440" y="218520"/>
                  <a:chExt cx="1006200" cy="6278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20280000">
                    <a:off x="7795080" y="560520"/>
                    <a:ext cx="64152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82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20280000">
                    <a:off x="8410320" y="272520"/>
                    <a:ext cx="343440" cy="273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82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738920" y="69840"/>
                  <a:ext cx="960480" cy="824760"/>
                  <a:chOff x="7738920" y="69840"/>
                  <a:chExt cx="960480" cy="824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9680000">
                    <a:off x="7737840" y="562680"/>
                    <a:ext cx="632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70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9680000">
                    <a:off x="8311680" y="137880"/>
                    <a:ext cx="338400" cy="28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70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 flipH="1" rot="4560000">
                  <a:off x="7419240" y="487080"/>
                  <a:ext cx="527040" cy="7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rot="4560000">
                  <a:off x="7431840" y="101160"/>
                  <a:ext cx="280800" cy="11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7552800" y="-45360"/>
                  <a:ext cx="661680" cy="826560"/>
                  <a:chOff x="7552800" y="-45360"/>
                  <a:chExt cx="661680" cy="8265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17760000">
                    <a:off x="7462080" y="430560"/>
                    <a:ext cx="550800" cy="142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39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17760000">
                    <a:off x="7902360" y="23760"/>
                    <a:ext cx="294120" cy="223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39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488720" y="-28440"/>
                  <a:ext cx="1022400" cy="801000"/>
                  <a:chOff x="7488720" y="-28440"/>
                  <a:chExt cx="1022400" cy="8010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18840000">
                    <a:off x="7474320" y="383760"/>
                    <a:ext cx="586440" cy="209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6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18840000">
                    <a:off x="8127720" y="35280"/>
                    <a:ext cx="315360" cy="32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6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675560" y="-5400"/>
                  <a:ext cx="225000" cy="749880"/>
                  <a:chOff x="7675560" y="-5400"/>
                  <a:chExt cx="225000" cy="749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16680000">
                    <a:off x="7494840" y="468000"/>
                    <a:ext cx="488880" cy="60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18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6680000">
                    <a:off x="7705800" y="81000"/>
                    <a:ext cx="25848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18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6611400" y="937080"/>
                  <a:ext cx="1248120" cy="1311120"/>
                  <a:chOff x="6611400" y="937080"/>
                  <a:chExt cx="1248120" cy="13111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H="1" rot="18360000">
                    <a:off x="7057800" y="1237320"/>
                    <a:ext cx="875880" cy="26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18360000">
                    <a:off x="6679080" y="1735560"/>
                    <a:ext cx="467640" cy="407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946560" y="963720"/>
                  <a:ext cx="824760" cy="1315440"/>
                  <a:chOff x="6946560" y="963720"/>
                  <a:chExt cx="824760" cy="1315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H="1" rot="17520000">
                    <a:off x="7082640" y="1273680"/>
                    <a:ext cx="8355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17520000">
                    <a:off x="6986520" y="1804680"/>
                    <a:ext cx="446400" cy="38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280280" y="987840"/>
                  <a:ext cx="461880" cy="1252440"/>
                  <a:chOff x="7280280" y="987840"/>
                  <a:chExt cx="461880" cy="125244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 rot="16860000">
                    <a:off x="7166160" y="1298160"/>
                    <a:ext cx="799560" cy="202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rot="16860000">
                    <a:off x="7264440" y="1841400"/>
                    <a:ext cx="425520" cy="31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557120" y="921960"/>
                  <a:ext cx="1288440" cy="1292040"/>
                  <a:chOff x="7557120" y="921960"/>
                  <a:chExt cx="1288440" cy="12920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3119400">
                    <a:off x="7492320" y="1215000"/>
                    <a:ext cx="87156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6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3119400">
                    <a:off x="8308080" y="1698120"/>
                    <a:ext cx="464400" cy="41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1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601400" y="950760"/>
                  <a:ext cx="1000440" cy="1325880"/>
                  <a:chOff x="7601400" y="950760"/>
                  <a:chExt cx="1000440" cy="13258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3719400">
                    <a:off x="7484040" y="1261080"/>
                    <a:ext cx="851400" cy="24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74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3719400">
                    <a:off x="8093520" y="1788840"/>
                    <a:ext cx="458640" cy="388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2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626960" y="994320"/>
                  <a:ext cx="704160" cy="1288440"/>
                  <a:chOff x="7626960" y="994320"/>
                  <a:chExt cx="704160" cy="12884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4260000">
                    <a:off x="7443000" y="1317960"/>
                    <a:ext cx="830520" cy="204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85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4260000">
                    <a:off x="7884000" y="1860120"/>
                    <a:ext cx="446400" cy="31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679160" y="1049040"/>
                  <a:ext cx="367560" cy="1179000"/>
                  <a:chOff x="7679160" y="1049040"/>
                  <a:chExt cx="367560" cy="11790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4919400">
                    <a:off x="7435800" y="1352880"/>
                    <a:ext cx="7635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97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4919400">
                    <a:off x="7680240" y="1871640"/>
                    <a:ext cx="40752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5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479360" y="1073520"/>
                  <a:ext cx="335880" cy="1139760"/>
                  <a:chOff x="7479360" y="1073520"/>
                  <a:chExt cx="335880" cy="11397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5759400">
                    <a:off x="7344360" y="1387440"/>
                    <a:ext cx="742320" cy="122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61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5759400">
                    <a:off x="7396560" y="1912680"/>
                    <a:ext cx="394200" cy="18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61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 flipH="1">
                <a:off x="7298280" y="1225440"/>
                <a:ext cx="247680" cy="75564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843960" y="949320"/>
                <a:ext cx="815760" cy="1182600"/>
                <a:chOff x="6843960" y="949320"/>
                <a:chExt cx="815760" cy="118260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6843960" y="949320"/>
                  <a:ext cx="815760" cy="11826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825320" y="233280"/>
                <a:ext cx="1317600" cy="542880"/>
                <a:chOff x="7825320" y="233280"/>
                <a:chExt cx="1317600" cy="5428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rot="10800000">
                  <a:off x="7825320" y="233280"/>
                  <a:ext cx="1317600" cy="54288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953040" y="758880"/>
                <a:ext cx="638280" cy="1220760"/>
                <a:chOff x="6953040" y="758880"/>
                <a:chExt cx="638280" cy="1220760"/>
              </a:xfrm>
            </p:grpSpPr>
            <p:sp>
              <p:nvSpPr>
                <p:cNvPr id="478" name=""/>
                <p:cNvSpPr/>
                <p:nvPr/>
              </p:nvSpPr>
              <p:spPr>
                <a:xfrm flipH="1">
                  <a:off x="6952680" y="758880"/>
                  <a:ext cx="638280" cy="12207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500880" y="820800"/>
                <a:ext cx="1036800" cy="1220760"/>
                <a:chOff x="6500880" y="820800"/>
                <a:chExt cx="1036800" cy="1220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6500880" y="820800"/>
                  <a:ext cx="1036800" cy="12207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6409080" y="598320"/>
                <a:ext cx="1220760" cy="1222200"/>
                <a:chOff x="6409080" y="598320"/>
                <a:chExt cx="1220760" cy="1222200"/>
              </a:xfrm>
            </p:grpSpPr>
            <p:sp>
              <p:nvSpPr>
                <p:cNvPr id="482" name=""/>
                <p:cNvSpPr/>
                <p:nvPr/>
              </p:nvSpPr>
              <p:spPr>
                <a:xfrm flipH="1">
                  <a:off x="6408720" y="598320"/>
                  <a:ext cx="1220760" cy="12222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761960" y="770040"/>
                <a:ext cx="195120" cy="1222200"/>
                <a:chOff x="7761960" y="770040"/>
                <a:chExt cx="195120" cy="1222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761960" y="770040"/>
                  <a:ext cx="195120" cy="122220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812720" y="765000"/>
                <a:ext cx="515880" cy="1220760"/>
                <a:chOff x="7812720" y="765000"/>
                <a:chExt cx="515880" cy="1220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812720" y="765000"/>
                  <a:ext cx="515880" cy="12207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7858440" y="604800"/>
                <a:ext cx="731880" cy="1222200"/>
                <a:chOff x="7858440" y="604800"/>
                <a:chExt cx="731880" cy="1222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858440" y="604800"/>
                  <a:ext cx="731880" cy="122220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7998480" y="1355760"/>
                <a:ext cx="245880" cy="75564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8880000">
                <a:off x="7608600" y="1103400"/>
                <a:ext cx="225360" cy="42696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6338880" y="417600"/>
                <a:ext cx="1306800" cy="1220400"/>
                <a:chOff x="6338880" y="417600"/>
                <a:chExt cx="1306800" cy="1220400"/>
              </a:xfrm>
            </p:grpSpPr>
            <p:sp>
              <p:nvSpPr>
                <p:cNvPr id="492" name=""/>
                <p:cNvSpPr/>
                <p:nvPr/>
              </p:nvSpPr>
              <p:spPr>
                <a:xfrm flipH="1">
                  <a:off x="6338880" y="417600"/>
                  <a:ext cx="1306800" cy="12204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708600" y="160200"/>
                <a:ext cx="949320" cy="547560"/>
                <a:chOff x="6708600" y="160200"/>
                <a:chExt cx="949320" cy="547560"/>
              </a:xfrm>
            </p:grpSpPr>
            <p:sp>
              <p:nvSpPr>
                <p:cNvPr id="494" name=""/>
                <p:cNvSpPr/>
                <p:nvPr/>
              </p:nvSpPr>
              <p:spPr>
                <a:xfrm flipH="1">
                  <a:off x="6708240" y="160200"/>
                  <a:ext cx="949320" cy="5475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722000" y="657360"/>
                <a:ext cx="392040" cy="523440"/>
                <a:chOff x="7722000" y="657360"/>
                <a:chExt cx="392040" cy="523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722000" y="657360"/>
                  <a:ext cx="392040" cy="523440"/>
                </a:xfrm>
                <a:prstGeom prst="pie">
                  <a:avLst/>
                </a:prstGeom>
                <a:noFill/>
                <a:ln w="1260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 flipH="1">
                <a:off x="6558840" y="1289160"/>
                <a:ext cx="551160" cy="77760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819480" y="461880"/>
                <a:ext cx="353880" cy="77796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228800" y="228600"/>
                <a:ext cx="212760" cy="77796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62240" y="1173240"/>
                <a:ext cx="512640" cy="81900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94040" y="755640"/>
                <a:ext cx="771480" cy="54612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324280" y="176040"/>
                <a:ext cx="336240" cy="7318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280000">
                <a:off x="7985520" y="785880"/>
                <a:ext cx="225360" cy="42840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320000">
                <a:off x="7176600" y="774360"/>
                <a:ext cx="225360" cy="42876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896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 Black"/>
              </a:rPr>
              <a:t>Chinese Inven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aper (it was used for clothes at first, then for writing…seriously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rinting with carved wooden block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(called moveable type printing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Gunpowder…then Fireworks!  (watch out  Great Wall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orcelain (that’s why it’s called China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8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53341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il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by Queen Si Ling-Chi perhaps a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00 b.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from the cocoons of Silkworms (poor silkworm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k was reserved for only the Emperor but gradually its use spread to the el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432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ilk (continue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autiful &amp; delicate thread soon began to be demanded all around the Ancient World (think Egypt, the Middle East, and even Europ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nese secret.  If you tried to sneak Silkworms out of China you could be executed…gu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kworms only ate Mulberry leaves so it was very hard to smuggle out silkwo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9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Which leads us to the Silk Road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Silk Ro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neither made out of silk or a road…discu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5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The Silk Road (cont.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really a series of trade routes that traded almost everything: precious stones, spices, textiles, and even do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inuous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almost 2,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culture &amp; relig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7315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1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&amp; We can’t forget Festival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ese New Year (follows the lunar calendar which is based on the mo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alls in January or Febru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nese shoot fireworks to scare away misfort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nese Zodiac goes in a 12 year cycle.  It contains the rooster, dog, pig, rat, ox, tiger, hare, dragon, snake, horse, sheep and monk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6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hinese New Year families get together and have a large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receive little red envelopes with $ inside (oh-yea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lean your house and decorate it with pieces of red pap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efore New Year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wise you m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ep out your g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11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Confuci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a philosopher in Ancient Chin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his real name was Kong Qui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orn around 551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 that “what you do not wish for yourself, do not do to oth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d that 5 relationships were key to a stable society.  Ruler/Subjec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her/Son, Husband/Wif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r Brother/Younger Brothe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riend/Fri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9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17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essed virtue which is shown by how people act, not what they sa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s teachings became know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 Confucianis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fucianism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pplied to all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reas of Chine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fe until th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’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arted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es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meritocracy) rather than aristocrac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447048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2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Family Lif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ads were the 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 They told everything to do, even who you would marry (they could also sell you into slavery…yikes!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Dad,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dest 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bo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didn’t call your brother/sister by name but by title “oldest brother”, “#2 brother”, and “younger brother”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on RESP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7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Family life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hinese liv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oom houses.  One main room in the middle, with the parents bedroom on the lef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 the childr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haring the bedroom on the righ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dea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dparents, parents, and kids would all live in the same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althy built elaborate houses with courtya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3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mportant Riv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Ri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ocated in Northern China.  Is the most important river in China.  Floods frequently due to silt  which also explains how it received its name.  Also called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er of Sorrow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angtze Ri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ocated in Southern China.  It i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ongest river in the world (over 3,900 miles long).  Contains the worlds largest dam (3 Gorges Da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8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Grand Can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between 604-610 by the Sui Dyn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lthough it connected several older canals begun by previous Dynast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ed several of China’s most important cities (Beijing &amp; Hangzhou).  As well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angtz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Riv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sted the economy (since goods could travel more easil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ed to unify 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3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Grand Canal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over 1100 miles long (1114 to be exac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Great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as built by conscripted peas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over ½ of them d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constr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name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can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9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The Great W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971440" y="1142640"/>
            <a:ext cx="5638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by China’s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mperor Qin Shi Huang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several older wa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completed in 11 years, 221-210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to keep out the “Northern Barbarian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ed 2,6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509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cp:keywords/>
  <dc:language>en-US</dc:language>
  <cp:lastModifiedBy>Jane Shlensky</cp:lastModifiedBy>
  <dcterms:modified xsi:type="dcterms:W3CDTF">2008-04-19T17:19:28Z</dcterms:modified>
  <cp:revision>1</cp:revision>
  <dc:subject/>
  <dc:title>Ancient China</dc:title>
</cp:coreProperties>
</file>